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08550"/>
        <c:axId val="78906772"/>
      </c:barChart>
      <c:catAx>
        <c:axId val="34308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06772"/>
        <c:crosses val="autoZero"/>
        <c:auto val="1"/>
        <c:lblAlgn val="ctr"/>
        <c:lblOffset val="100"/>
        <c:noMultiLvlLbl val="0"/>
      </c:catAx>
      <c:valAx>
        <c:axId val="78906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08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A1E-4B52-41AF-992D-735ACB90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97B-98B0-4D1F-92CA-28FB64AA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068-09A1-4BB5-A825-E91803D3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DC2-15AD-47C7-A34C-D7AABDE8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391-56A1-4FCA-A3A4-61AC50CC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378-1A5F-42DD-B84C-7E23855E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EF1-7F6E-4654-901C-5A259A64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D65-0667-406D-8B6C-F0421804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2E3-777C-4381-B10F-1C31CA41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BA9-A501-4AAD-89D0-D6FEEAF2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5B5-8477-45FB-A55D-E94D1F7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9B2-61F1-4A26-9483-7F3AA27B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317EF-30A8-4465-B2B3-FB4AE34E7C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