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23142"/>
        <c:axId val="47686612"/>
      </c:barChart>
      <c:catAx>
        <c:axId val="67723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86612"/>
        <c:crosses val="autoZero"/>
        <c:auto val="1"/>
        <c:lblAlgn val="ctr"/>
        <c:lblOffset val="100"/>
        <c:noMultiLvlLbl val="0"/>
      </c:catAx>
      <c:valAx>
        <c:axId val="47686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23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743-3FC8-4E7A-857F-4087AADA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B9D-D51D-4A3C-A9EB-05864113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A02-6D59-41F7-96B9-1D0A0D21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8A6-265A-437E-AF01-8B16DBB0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87B-0353-442A-8591-6E02E09A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715-E6FD-4B57-983A-93DAEB58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DA1-1164-418F-AD59-B93D14E1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FE1-2887-4D4C-AE5A-CC04532A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C12-30EA-4975-9EBC-5E78250E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FCF-FE86-4C70-AC4C-0D1AB7B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14F-2B55-4B9F-9C5C-5A00A563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97D-69B6-4F59-988A-307BEDA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AB07C-343D-4031-A13E-54444C1416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