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666992"/>
        <c:axId val="12780218"/>
      </c:barChart>
      <c:catAx>
        <c:axId val="566699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780218"/>
        <c:crosses val="autoZero"/>
        <c:auto val="1"/>
        <c:lblAlgn val="ctr"/>
        <c:lblOffset val="100"/>
        <c:noMultiLvlLbl val="0"/>
      </c:catAx>
      <c:valAx>
        <c:axId val="1278021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6699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47872-1FB7-476A-BB0F-8933D3473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0DF66-D0BF-4B15-A783-56AA0BEAF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5C01D-7028-47B9-9D24-FCE27B58B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2785D-EDB6-41C1-96F0-96A2E59BC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5BDD7-8336-4887-A28B-0EC860A3C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3BA2B-3D09-4EFF-8685-CA759217A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5DE62-B203-4522-9B51-CC8196E61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420E0-DC5B-4479-A37D-F2BEAF76E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9021F-EC0B-401A-98DB-4EDB877BE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BBD6B-93A1-4637-9599-2151E66E9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CB9EC-DF1C-43C9-B9D7-AE6E78C27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10E59-60C9-4531-AE3A-E3E173D7F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0A57C5-0994-49EB-876E-15C11B6DED2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