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57971"/>
        <c:axId val="36764575"/>
      </c:barChart>
      <c:catAx>
        <c:axId val="91757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64575"/>
        <c:crosses val="autoZero"/>
        <c:auto val="1"/>
        <c:lblAlgn val="ctr"/>
        <c:lblOffset val="100"/>
        <c:noMultiLvlLbl val="0"/>
      </c:catAx>
      <c:valAx>
        <c:axId val="36764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57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ACA-EED6-47B3-9BA6-B24A1B81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F58-929C-4E63-8C71-35B566F4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07D-2119-4D2D-9067-D4DB8F2B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18E-D113-414A-8018-A5676A25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467-FC8B-4D42-ACC2-C26B1CE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AFD-3354-4567-9138-EEAC01A4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C0C-70D5-49C1-B96E-0CB4C04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5B2-890D-4274-A029-092DB66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3DA-9CA3-4209-9C4E-58F7B1E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56A-46BB-4594-B6D5-55FF7209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0C5-89FD-4887-83B0-826CE55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47F-D31D-4BA5-A61C-EF2EAC7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C27B-70F3-424B-A9A7-D54C7455C1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