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06490"/>
        <c:axId val="84383262"/>
      </c:barChart>
      <c:catAx>
        <c:axId val="38206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83262"/>
        <c:crosses val="autoZero"/>
        <c:auto val="1"/>
        <c:lblAlgn val="ctr"/>
        <c:lblOffset val="100"/>
        <c:noMultiLvlLbl val="0"/>
      </c:catAx>
      <c:valAx>
        <c:axId val="84383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06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977-94E6-4469-BE25-DBDC4D10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E12-59BC-4E13-9497-61A81ADB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680-071A-4678-8893-DB80FA80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9C7-259B-4600-9DC9-5C660ED0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7D7-0B5F-4F17-9230-650CD4A0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007-DDB2-44E0-8E4E-9D1F40A9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95F-A209-4B17-803F-E85DB4B8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E9C-220C-4810-B389-1D14E6F8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C44-EBD8-41A1-8904-8572D26D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F95-31BD-47BF-995F-68E80E4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31F-F389-4B7C-8544-2CFEE164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7FD-61B8-41D4-B079-45683B4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42853-0FF0-44BE-A986-B9F37184E6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