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08490"/>
        <c:axId val="28777707"/>
      </c:barChart>
      <c:catAx>
        <c:axId val="88708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77707"/>
        <c:crosses val="autoZero"/>
        <c:auto val="1"/>
        <c:lblAlgn val="ctr"/>
        <c:lblOffset val="100"/>
        <c:noMultiLvlLbl val="0"/>
      </c:catAx>
      <c:valAx>
        <c:axId val="28777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08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965-504B-4B9F-81B2-A751CBC1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E52-7C4F-4134-9891-26D9C12C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F81-EE36-45FB-8180-1593AC62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235-A3E3-4B9C-B8E8-14A25186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05B-78E5-4616-A84B-C5E08D4F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E62-7A14-485E-A6E2-B28FD8FA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087-E0E3-440E-8E09-9A0892B5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C64-BF26-4D9A-96E8-9AACD393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7BB-3297-42FF-B118-6E0C86B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A21-1689-4565-80EA-8D27203A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2E6-061C-43A7-8F57-06FCA3A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C3D-E9A0-42F0-8E50-0176D6E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E2F2B-96CC-4EBF-BB81-903184FA07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