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93995"/>
        <c:axId val="36721246"/>
      </c:barChart>
      <c:catAx>
        <c:axId val="58993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21246"/>
        <c:crosses val="autoZero"/>
        <c:auto val="1"/>
        <c:lblAlgn val="ctr"/>
        <c:lblOffset val="100"/>
        <c:noMultiLvlLbl val="0"/>
      </c:catAx>
      <c:valAx>
        <c:axId val="36721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93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4495-C63B-4EAA-BBC4-D27D3B1A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508E-6A32-4A8F-BF1D-964B4255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9B0-5E91-425A-AEFE-0D383CC5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24A-C1A6-4FA8-B8B5-DD276FFE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BDC-A52A-439F-AAC6-3F6BBE6D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0E0-866C-48F7-A496-A8B840C4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5DE7-8564-4B60-9C28-B5F00741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0930-FB07-4EED-8B70-CFCE9581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C7E-3F56-431C-B57D-091058B5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BBC-1867-4F2A-9477-513F902F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9DB-C75E-48ED-808D-C14799A0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7BB-69A0-410C-9E95-010EDA68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3DB4D-FCC2-4D89-8442-4933989414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