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61314"/>
        <c:axId val="17081287"/>
      </c:barChart>
      <c:catAx>
        <c:axId val="71361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81287"/>
        <c:crosses val="autoZero"/>
        <c:auto val="1"/>
        <c:lblAlgn val="ctr"/>
        <c:lblOffset val="100"/>
        <c:noMultiLvlLbl val="0"/>
      </c:catAx>
      <c:valAx>
        <c:axId val="17081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61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674-2501-442C-B832-797E02EA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14A-EB49-487F-8E62-6296659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FF9-695D-4AE4-AA5C-6F662C3D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DD8-9EC8-45EC-9BD1-3EB20D8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1C2-443A-497F-A4E2-9D87E77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F3A-F517-4ECF-842B-16CB34F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481-6C07-47AB-AA3D-90DE25E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185-EE12-4259-9AE5-9FBFA6F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F8-BEE0-493D-B8DE-4799E30B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DF5-63DD-42D7-8811-C998022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4C1-8CD0-430E-B7AC-1A89F0C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F93-40FC-4A8F-9F29-08226F8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6542-DBAE-4949-9D0B-B2F273238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