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30710"/>
        <c:axId val="49351971"/>
      </c:barChart>
      <c:catAx>
        <c:axId val="10730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51971"/>
        <c:crosses val="autoZero"/>
        <c:auto val="1"/>
        <c:lblAlgn val="ctr"/>
        <c:lblOffset val="100"/>
        <c:noMultiLvlLbl val="0"/>
      </c:catAx>
      <c:valAx>
        <c:axId val="49351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0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A2A-5BA3-41D0-AC11-A604592C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991-DDEF-47FD-8FCA-EF86B6DB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3C9-8F88-4C6D-A495-F790E74A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C3E-EFE5-407B-B61C-00F96C3E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60E-C8F9-4B76-A8D9-600C637B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F2D-303C-4BF1-8F53-21188489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45E-E12A-4D7A-85D7-9AFDE015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1CD-703A-45EF-A078-0B5F55D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B6F-0CBA-4A2C-8E70-BD194C73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96B-171E-4959-8424-3FFF352D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B0C-D0CB-4811-B8E8-922EF604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D90-9F9E-4873-AAD9-62F23870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175D9-5E90-49BB-A771-B16A1DC5E1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