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88157"/>
        <c:axId val="15223841"/>
      </c:barChart>
      <c:catAx>
        <c:axId val="41488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23841"/>
        <c:crosses val="autoZero"/>
        <c:auto val="1"/>
        <c:lblAlgn val="ctr"/>
        <c:lblOffset val="100"/>
        <c:noMultiLvlLbl val="0"/>
      </c:catAx>
      <c:valAx>
        <c:axId val="15223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8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290-6498-4DB5-B597-E6013D60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8D3-404F-4CA4-9D29-69F078E8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AEE-A7EB-4092-A5F6-98DA4738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8EB-2D41-4530-A2EA-9E057CC2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2DA-404F-4FAF-AC0B-FA9D4E4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F52-2E4D-4A12-B557-D681395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92C-559B-410F-83F8-8F35208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8E2-A472-449D-B615-389EEDD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14E-53E7-4700-8A47-F4E34C08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0DD-6493-42D4-8E25-806B5B6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2B3-3385-4E7D-A698-4F0939A7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A49-5FB0-4562-9E25-C74AB1C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8A87B-9D30-4347-9D6F-70405EC9B4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