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6956"/>
        <c:axId val="68967981"/>
      </c:barChart>
      <c:catAx>
        <c:axId val="5166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67981"/>
        <c:crosses val="autoZero"/>
        <c:auto val="1"/>
        <c:lblAlgn val="ctr"/>
        <c:lblOffset val="100"/>
        <c:noMultiLvlLbl val="0"/>
      </c:catAx>
      <c:valAx>
        <c:axId val="68967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6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773-4D32-4204-88D8-85CE5371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A3E-9929-4CFF-BDB3-05E7A43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7BE-7999-483A-98DD-69A4A7C3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94A-10AE-403E-B56D-FF7425D6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975-9C0D-474E-966B-4F33AE83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F75-28F0-4CDA-8D5A-0A1A3C5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650-0117-4A2F-BE2E-7C8131D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069-FCAE-46CE-B7EB-F530E262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18F-F113-485D-A7EF-733AE6D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907-B23E-4736-8AC7-8D5C60F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5A5-C4C2-4655-AA30-EBC5074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DCA-931D-489C-98A2-C316BCE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608DA-B0FA-48B3-AA56-FEEE2268E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