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66563"/>
        <c:axId val="34089995"/>
      </c:barChart>
      <c:catAx>
        <c:axId val="31266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89995"/>
        <c:crosses val="autoZero"/>
        <c:auto val="1"/>
        <c:lblAlgn val="ctr"/>
        <c:lblOffset val="100"/>
        <c:noMultiLvlLbl val="0"/>
      </c:catAx>
      <c:valAx>
        <c:axId val="34089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66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DF0-390B-445B-86FA-BF2126EA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0F2-AFF8-4C49-BC90-2A283396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F0B-3DED-46CF-AD9C-0DDFB62D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CC3-FA08-483D-B65E-CC56A44C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00D-A477-449B-9730-CFCC6A2B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849-4848-4A75-B73F-B77F4DE5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D1D-B34C-4690-9BC1-56834760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FF4-0267-45FD-B6DF-C2356603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303-07F3-4FA6-A13A-72B5D609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E10-12CF-48F9-B593-B5DAFE4C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12C-B81D-4BAC-A86C-7FBADD1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5D7-878F-40CB-B7D6-80FC606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92C59-99B8-4C7E-9B7A-ADC382CF72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