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0861"/>
        <c:axId val="81627824"/>
      </c:barChart>
      <c:catAx>
        <c:axId val="40880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27824"/>
        <c:crosses val="autoZero"/>
        <c:auto val="1"/>
        <c:lblAlgn val="ctr"/>
        <c:lblOffset val="100"/>
        <c:noMultiLvlLbl val="0"/>
      </c:catAx>
      <c:valAx>
        <c:axId val="81627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0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93C-2880-4609-A8A0-AB6056DC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0A7-A42F-45DB-8AFA-50E460A0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F45-EF8C-4188-A51B-47A2935E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978-CCB1-4F2C-B1D0-D416955E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AED-A289-4826-96C8-15F1F3AD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3F0-C353-43F1-AB6E-9CD4F40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A2F-BAB1-4247-85F6-67FDDF0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76F-2EE9-4570-820E-C98B1C5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694-44CC-4B08-A8DA-B91C8D6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C80-0D5A-42BE-A339-6ACDA70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D35-85DB-460F-9B9A-B07A0A9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7A4-EDCB-4A5F-9DC6-E19766D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47900-3F0B-4BE2-9A73-072FDE7782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