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56344"/>
        <c:axId val="19089244"/>
      </c:barChart>
      <c:catAx>
        <c:axId val="48656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89244"/>
        <c:crosses val="autoZero"/>
        <c:auto val="1"/>
        <c:lblAlgn val="ctr"/>
        <c:lblOffset val="100"/>
        <c:noMultiLvlLbl val="0"/>
      </c:catAx>
      <c:valAx>
        <c:axId val="19089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56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E42-1FE1-44A3-AD4D-9D8473E9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2E8-638D-41A6-90D6-B0D38EDA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07D-6AEB-4332-8F44-C7E0EEBC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E96-9DB7-452E-87C8-019A0939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82A-83F7-4CF5-A296-A0B17B0B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E5D-34CB-446F-94D3-4F79B9B1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BCE-A53C-4177-8BDD-A51E3D4C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F9B-0151-47CF-8F8C-7B8B89C4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A9F-D02C-4981-A3EC-19A77CFD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468-B76D-4BB7-BAE8-5CEDFB5B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F70-DBCA-4B33-BC93-9AE490BD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EBA-2C3B-4B6A-9D4A-69EFD9C1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3858E-9F92-494B-9D33-401E96873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