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46975"/>
        <c:axId val="79154148"/>
      </c:barChart>
      <c:catAx>
        <c:axId val="31746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54148"/>
        <c:crosses val="autoZero"/>
        <c:auto val="1"/>
        <c:lblAlgn val="ctr"/>
        <c:lblOffset val="100"/>
        <c:noMultiLvlLbl val="0"/>
      </c:catAx>
      <c:valAx>
        <c:axId val="79154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46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CA9-E6A9-476E-877E-11A1D51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7EE-70E7-4D24-9E90-8397067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140-E369-4E72-B9BE-3D783149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FBA-3AD3-41D5-A0D1-BF13E130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BDC-9902-4B87-BE42-DB81A421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E25-E8E2-477B-AB26-7EB801AC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CF3-CFE6-411F-831F-9AEA40A7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997-AF04-4222-84D8-A1074948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D88-59DE-4851-9C9F-DC9516C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16D-8E11-45A2-991A-2FDEDDD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EA2-392B-45FE-8E93-A91173B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769-7931-448A-8E92-53C9FF9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E32D2-1076-479E-BBA6-576046AD4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