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02070"/>
        <c:axId val="79176748"/>
      </c:barChart>
      <c:catAx>
        <c:axId val="785020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76748"/>
        <c:crosses val="autoZero"/>
        <c:auto val="1"/>
        <c:lblAlgn val="ctr"/>
        <c:lblOffset val="100"/>
        <c:noMultiLvlLbl val="0"/>
      </c:catAx>
      <c:valAx>
        <c:axId val="79176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020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7DF-CB42-49AD-B78D-E80DD953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E6E-8BCA-4138-B5A6-064B5AD7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C06-F2D4-4B35-84DC-7D2811F4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F8C-4DF3-4CC2-8A2D-3AF41B2C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2A9-36C1-408A-A5EF-0EA6D6A5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281-5124-479A-B880-72D0D55D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61A-174E-4A72-80D2-61601ACA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3CD-7259-40C7-914A-0700155A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38B-9174-416A-BD4D-B55DC13F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E0F-2653-4273-B333-7953C393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CDA-7F9A-4EAC-9590-F7857EDB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9BA-B00A-4D8F-B465-A5C93682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C054A-B42F-480E-B5E2-2AA14A8F3D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