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83707"/>
        <c:axId val="89086021"/>
      </c:barChart>
      <c:catAx>
        <c:axId val="28683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6021"/>
        <c:crosses val="autoZero"/>
        <c:auto val="1"/>
        <c:lblAlgn val="ctr"/>
        <c:lblOffset val="100"/>
        <c:noMultiLvlLbl val="0"/>
      </c:catAx>
      <c:valAx>
        <c:axId val="89086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3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978-691F-452D-AEA7-3C088B9C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361-9987-461B-A63E-44ABC40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D97-6419-4674-8EF6-77EBEE5E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4B3-94E4-4319-9131-AA8CC65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4C7-74B1-439A-A6B1-6C3B004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58C-35E2-4EEF-8208-2C4F2C04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D68-9329-476F-BD01-F77508C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50E-19ED-4EBB-9433-F18CA7AE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E2A-FDD6-43C6-B3F5-A2D6781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449-176B-47C2-B00E-8855C64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E08-CB63-427D-A0E3-121C3B04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A4C-C3DC-494F-93DB-C76A951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CCFF5-F2A8-4350-B4DB-8521B6FE7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