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40180"/>
        <c:axId val="257520"/>
      </c:barChart>
      <c:catAx>
        <c:axId val="93140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20"/>
        <c:crosses val="autoZero"/>
        <c:auto val="1"/>
        <c:lblAlgn val="ctr"/>
        <c:lblOffset val="100"/>
        <c:noMultiLvlLbl val="0"/>
      </c:catAx>
      <c:valAx>
        <c:axId val="257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0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6F7-127C-421D-9F83-1F15EE54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5FE-CEE0-4EF4-886C-0B0CD7C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3C3-2F68-42C0-AC65-68FC4C8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214-F96A-4D80-9C81-5AFD7DB9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D69-BE23-4D47-A294-1CA8A9F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042-3601-4EFA-B505-511C1E2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793-38B1-46A5-89B7-D6C4C3B3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B09-0AE4-4AD8-8996-A41DDE3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3AD-4A34-48DF-AD8F-8FB3A63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DF-9BEA-48A5-A3CB-298026C3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0C2-FD73-477B-AF47-423A54C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195-4AEA-4A7E-9C5E-E8AEBD1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CD1B-47A9-49A4-AD61-3B1417E55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