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627175"/>
        <c:axId val="44789987"/>
      </c:barChart>
      <c:catAx>
        <c:axId val="886271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789987"/>
        <c:crosses val="autoZero"/>
        <c:auto val="1"/>
        <c:lblAlgn val="ctr"/>
        <c:lblOffset val="100"/>
        <c:noMultiLvlLbl val="0"/>
      </c:catAx>
      <c:valAx>
        <c:axId val="447899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6271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970F-A93F-4ADF-A528-E792219D6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2746-B054-4334-9F80-29843609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F6DD-44D0-4AB0-83EF-2CF04296C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7CA2-22B2-4B19-AF0B-7170279EE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281D-28F3-4882-BDFA-0642E401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C118-76F0-48A2-8288-3217EC49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5020-4645-41E5-9D38-C406E6E9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4A75-5468-42C1-A915-C331FAFE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CC39-84D3-44BF-A81E-2FED91FA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0925-6DA9-4483-B629-480734B8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7C0E-759E-4892-A931-D6F9517C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FCDF-C26B-4E02-AD05-1529E7A2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FA0BC-260A-4490-8907-4098BB7139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