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45048"/>
        <c:axId val="69527552"/>
      </c:barChart>
      <c:catAx>
        <c:axId val="20145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27552"/>
        <c:crosses val="autoZero"/>
        <c:auto val="1"/>
        <c:lblAlgn val="ctr"/>
        <c:lblOffset val="100"/>
        <c:noMultiLvlLbl val="0"/>
      </c:catAx>
      <c:valAx>
        <c:axId val="695275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45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C8A6-EBD7-4600-B752-22E1B9F3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6908-B31C-4475-B477-AF803B9F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0A8-D869-46AF-831C-64CE7C5A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D1EC-7A2E-4996-B794-8E3E7180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ACC6-A883-419D-B2F7-16358315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20B-D4E9-4B0A-AD48-21BFC2FC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B8D-E9FC-4493-86A7-C4BC6D76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5E25-2906-4FE6-AFE6-484656CD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D8E-78E4-4AF6-8D21-5BA3580C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7FAF-0507-4FCC-8C1C-6CFECCDE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615-4A4F-498D-AA4C-9A676FC3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78D-0341-4926-9601-2B9DAB15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6BDCD-5BCD-46B3-A417-4EDDCBBEAA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