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43212"/>
        <c:axId val="10953371"/>
      </c:barChart>
      <c:catAx>
        <c:axId val="69943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53371"/>
        <c:crosses val="autoZero"/>
        <c:auto val="1"/>
        <c:lblAlgn val="ctr"/>
        <c:lblOffset val="100"/>
        <c:noMultiLvlLbl val="0"/>
      </c:catAx>
      <c:valAx>
        <c:axId val="10953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43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D81-9BF4-4036-94CE-892986CE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173-E148-4AA3-8772-D188BE8C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AE6-1894-4BA8-91CA-FB87115B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BAD-3C85-4C05-AF21-71CD95A6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988-E622-474D-8F2F-3BC847B9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792-FEB8-44BD-AB9A-1FB55C24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E0E-8945-47E3-942D-A7D63D0E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0B6-3B31-4C33-9F2D-CB219D58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71F-DBEF-416B-883E-AB1DA51A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035-E725-47F7-98B0-EC1BFC2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8FC-062A-402B-B16F-A5D50C24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BEE-9A6A-4B72-ACF2-78B107A2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8846E-BFA8-4E33-90C7-B48205C22E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