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94265"/>
        <c:axId val="59134540"/>
      </c:barChart>
      <c:catAx>
        <c:axId val="80194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34540"/>
        <c:crosses val="autoZero"/>
        <c:auto val="1"/>
        <c:lblAlgn val="ctr"/>
        <c:lblOffset val="100"/>
        <c:noMultiLvlLbl val="0"/>
      </c:catAx>
      <c:valAx>
        <c:axId val="59134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94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DF3-EBEE-4D0D-8496-F002DA73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BFD-EB34-454D-BFDE-AE762658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E52-B041-474C-83E3-DC8B391A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BDD-DC4F-40E6-A19B-A3DE4AAC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BC6-4DA2-46EC-BC7E-8D355AFB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781-4D58-4523-ACA6-E1E42C95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91D-9FBA-4A33-B417-53D74DC2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2B1-F457-4F54-AA33-B57C7724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A34-60BB-431F-9E18-12225DF4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205-51E8-45BB-A771-A8E6053A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278-12C2-46CC-9FB6-64F0FEF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BB7-C6FC-4C14-90DA-72DB116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4C85C-878B-4AAC-80DA-F671DF66A0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