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219856"/>
        <c:axId val="2582393"/>
      </c:barChart>
      <c:catAx>
        <c:axId val="94219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2393"/>
        <c:crosses val="autoZero"/>
        <c:auto val="1"/>
        <c:lblAlgn val="ctr"/>
        <c:lblOffset val="100"/>
        <c:noMultiLvlLbl val="0"/>
      </c:catAx>
      <c:valAx>
        <c:axId val="25823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19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C83-8BFB-42BC-8A14-6992C1B7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26B-8BB5-4FA2-9EDF-8D0E6D80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5818-9720-4C46-9AC3-05B5FA03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1402-50F4-43DB-A1D9-8D76793D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5F8A-B066-465E-B5AB-0F323A00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51B-236A-4F98-9E4F-46620BFA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5356-4B9B-4206-B520-33D7CF8F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49E-83DE-4266-BCE7-DDECD1CB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DD70-1BF5-40CA-B9F8-06BA272A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68A6-562E-4E16-9EA5-91B3078F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35AE-610F-4388-91A7-D2B966CF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EA2-F19D-47E2-9E35-ED227815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3C92B-945A-457C-94C6-549F49F57F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