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9556"/>
        <c:axId val="49628819"/>
      </c:barChart>
      <c:catAx>
        <c:axId val="49379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8819"/>
        <c:crosses val="autoZero"/>
        <c:auto val="1"/>
        <c:lblAlgn val="ctr"/>
        <c:lblOffset val="100"/>
        <c:noMultiLvlLbl val="0"/>
      </c:catAx>
      <c:valAx>
        <c:axId val="49628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9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D2A-836F-4007-9917-ECB7A351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493-0A7D-4309-8569-8D80FE12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0DE-06E9-4395-AB15-301E4515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77D-600D-436A-8CBA-6B9D1DB7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DF9-AD56-4D15-BB87-BF621C38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867-A7EB-4564-86D0-B21A4CD9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CD2-7BAD-4A91-8CAF-7D7A1FC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9F7-5347-4155-AE90-CBDC0751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560-68B6-4780-8923-2DE67F5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2A1-CC1A-4811-8C7F-4F8D608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479-662A-4A4C-AB9A-4163E88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6D1-B67D-498E-8987-B1F32F0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5A7B-D476-40C2-8043-1C70D7B0AE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