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89246"/>
        <c:axId val="89219967"/>
      </c:barChart>
      <c:catAx>
        <c:axId val="44289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9967"/>
        <c:crosses val="autoZero"/>
        <c:auto val="1"/>
        <c:lblAlgn val="ctr"/>
        <c:lblOffset val="100"/>
        <c:noMultiLvlLbl val="0"/>
      </c:catAx>
      <c:valAx>
        <c:axId val="89219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9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864-A968-41E2-8642-EA6A8A1E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C9F-2998-4F5F-81BE-63EBD7D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39C-56C8-4AA5-A6B9-5E8BB440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B85-E105-47AB-A646-2A443904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B88-296E-457A-AFC1-A9B2280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BE8-7220-420E-81B5-52AEF52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20E-6886-4465-A316-A4B6F8F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D1F-C5E3-4CE9-8766-03776E8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A75-0F48-4047-A3DC-E7EBB63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D28-9FA5-45C2-B271-7CA73DBE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3FC-54D2-4223-92F5-69CC6DC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2DF-4F7E-4443-B98C-F915CCBC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74929-36CF-49B8-87D2-8C36C7E53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