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05339"/>
        <c:axId val="51194862"/>
      </c:barChart>
      <c:catAx>
        <c:axId val="48105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4862"/>
        <c:crosses val="autoZero"/>
        <c:auto val="1"/>
        <c:lblAlgn val="ctr"/>
        <c:lblOffset val="100"/>
        <c:noMultiLvlLbl val="0"/>
      </c:catAx>
      <c:valAx>
        <c:axId val="51194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05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604-E92D-437C-A15A-3B615A04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538-F858-4CCE-944A-73251F5E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965-D440-4D2A-AF6A-14513103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5FD-FFE0-4477-B486-46370008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B12-AB46-4683-9612-DEBBF4ED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BC6-A44C-45C1-ABC5-4AE1930C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00E-800D-4CB7-B73A-FC7648B5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0EC-DF94-4B15-AA63-887810A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F75-8508-4D49-80BF-560C578B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D54-FA21-4B4E-998D-B863C27F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4DE-190D-468E-985C-89F1E58F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A8B-66E9-416A-92D5-7ACC1D62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A0C7A-992B-4CC1-A297-2B785549E5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