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31979"/>
        <c:axId val="223658"/>
      </c:barChart>
      <c:catAx>
        <c:axId val="36031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658"/>
        <c:crosses val="autoZero"/>
        <c:auto val="1"/>
        <c:lblAlgn val="ctr"/>
        <c:lblOffset val="100"/>
        <c:noMultiLvlLbl val="0"/>
      </c:catAx>
      <c:valAx>
        <c:axId val="223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31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D84-E855-4548-A2F1-E1333348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14B-21CF-41B8-9A7B-8E8176FE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D65-00D1-45C5-8B28-09935E4B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4E3-4D4B-46C8-9D4B-1923C2F7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5BA-B2AC-4835-B7D3-A4622385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589-9A34-40E2-8B78-2A9B9291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E76-CB5B-4ADF-A33F-8ECA0E7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698-A0C3-4F12-9EF2-AFD3203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155-55AC-48BC-B7FC-9A4D6F5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CEA-370E-4B0F-910F-F160FAB6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756-6E8F-4CFA-9559-93D8030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23D-3D50-4521-921A-ABB04A9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A0F5-D2B4-4288-B16B-221ABD6256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