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26238"/>
        <c:axId val="32420693"/>
      </c:barChart>
      <c:catAx>
        <c:axId val="29726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20693"/>
        <c:crosses val="autoZero"/>
        <c:auto val="1"/>
        <c:lblAlgn val="ctr"/>
        <c:lblOffset val="100"/>
        <c:noMultiLvlLbl val="0"/>
      </c:catAx>
      <c:valAx>
        <c:axId val="32420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26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99D-78D6-4B76-AD6B-CB92829E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EA6-1506-4A72-ABE3-FA9CF023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CE4-3B0B-4DFE-85AD-A7E8DF17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31A-3969-4CB0-A6B6-77D135FD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6A2-956D-460C-A648-58BBA197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DB3-53C9-4BDA-A09D-D17A7CFA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310-3C92-4DED-A359-EB0FE116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AAB-5403-4C43-A687-F01FE3F6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DDD-2CA4-43A9-96CA-C91B0A39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5B6-CF22-4A38-940D-95BF1A20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9F2-33E6-464B-974F-C4CE28CE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E0D-E2C0-4B26-8720-16B8667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C8EDE-BAE0-4465-912A-E6A0E26A12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