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32758"/>
        <c:axId val="67559700"/>
      </c:barChart>
      <c:catAx>
        <c:axId val="48432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9700"/>
        <c:crosses val="autoZero"/>
        <c:auto val="1"/>
        <c:lblAlgn val="ctr"/>
        <c:lblOffset val="100"/>
        <c:noMultiLvlLbl val="0"/>
      </c:catAx>
      <c:valAx>
        <c:axId val="67559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32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655-46AF-4ABD-8B4B-D116EEA4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63F-9317-4C85-8032-9683548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3F5-74D0-431A-A473-3797122F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81B-2E9D-41F8-B7A6-6899DD4E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128-81EB-4610-8A87-13C3ACE7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CE5-C454-4535-8E85-B8C451F5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8AE-1375-42A5-9F58-03A5478B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66B-22D5-4476-BB63-3459FD6A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978-365A-41E5-B91B-9FEBDA8F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4E8-6AF5-4E79-9B9E-C69DE9D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F90-E0FA-4EB2-ACB6-A72A0C7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F85-0702-4C7B-A968-BA1F361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A1880-3086-4455-A9A2-43B0969BC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