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66807"/>
        <c:axId val="83900376"/>
      </c:barChart>
      <c:catAx>
        <c:axId val="68366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00376"/>
        <c:crosses val="autoZero"/>
        <c:auto val="1"/>
        <c:lblAlgn val="ctr"/>
        <c:lblOffset val="100"/>
        <c:noMultiLvlLbl val="0"/>
      </c:catAx>
      <c:valAx>
        <c:axId val="83900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66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6FA-AE9F-49B7-B4CD-6DC86676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4FD-F6DF-45D0-B5DB-F9295C4A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9A1-E6C6-40CB-B069-4622AF18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5E4-9BB9-4DC8-8A35-6700DBFE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11B-996E-4D4F-B264-50919711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80B-ADF5-4E72-B193-1C7CB70B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703-E402-401D-8827-0D9EE238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BA0-57DA-41F6-92D2-12AFA5BE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8BB-7DA9-48D8-BFC2-B20A076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62D-5A7D-422B-A3EB-A76EC27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315-1F9B-4E73-A546-7043A3A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D26-66B9-44FA-994E-3073C44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19623-DF6C-4B6A-812A-7A77526B28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