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97575"/>
        <c:axId val="40080292"/>
      </c:barChart>
      <c:catAx>
        <c:axId val="23297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80292"/>
        <c:crosses val="autoZero"/>
        <c:auto val="1"/>
        <c:lblAlgn val="ctr"/>
        <c:lblOffset val="100"/>
        <c:noMultiLvlLbl val="0"/>
      </c:catAx>
      <c:valAx>
        <c:axId val="40080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97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C3D-3337-49A4-AAFC-897FA275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C39-0199-4962-BD3A-D05A29CB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A98-1E1E-4DE2-AF05-716AD061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90D-80F1-424E-B4C3-D134DCFB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E07-1198-44FC-9ACC-D88D8609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EA3-2BC0-4F72-BEC0-423826BB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58F-C1E5-4B5F-8B69-35DB795F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A9F-5106-4925-88A5-795F8299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A39-1863-41E8-A495-2CD13D24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544-2DDF-4A0F-934A-4A0859E1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913-6CB6-419B-B33A-88712DE3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F27-B7F6-412D-9B03-BA386F25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3F9C4-FEB8-4114-AEFD-14D9B336CC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