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79710"/>
        <c:axId val="32326412"/>
      </c:barChart>
      <c:catAx>
        <c:axId val="63079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26412"/>
        <c:crosses val="autoZero"/>
        <c:auto val="1"/>
        <c:lblAlgn val="ctr"/>
        <c:lblOffset val="100"/>
        <c:noMultiLvlLbl val="0"/>
      </c:catAx>
      <c:valAx>
        <c:axId val="3232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79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4D9-1D17-4F83-8A18-857ED893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160-42A3-4B70-AEF8-F4883CC4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5C7-475B-45A7-91EC-0AA7A3ED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F91-6192-44F7-AAED-C4B020BD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8C2-DE94-415B-A469-3396C56B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230-C0C0-4B6D-B9FE-427DC3BE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7B9-0E5A-478B-9D80-3E7E653E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19A-8CFB-4420-8CB1-6974E564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4E6-62A9-46F0-B553-82393EF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9BB-BC22-4A1C-B2A7-4A546E2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5BF-4A7A-4008-BDCA-602D2C4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C6C-A0A2-46AA-A596-D259F3A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0D7B7-A8AF-49D4-8144-CA80DD60BE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