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80685"/>
        <c:axId val="19802874"/>
      </c:barChart>
      <c:catAx>
        <c:axId val="86680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02874"/>
        <c:crosses val="autoZero"/>
        <c:auto val="1"/>
        <c:lblAlgn val="ctr"/>
        <c:lblOffset val="100"/>
        <c:noMultiLvlLbl val="0"/>
      </c:catAx>
      <c:valAx>
        <c:axId val="19802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80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9F9-54D8-4E1F-9E97-8ECC38FA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23F-04FA-40C0-B499-81B5EF1A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5C1-E24B-4F5C-B40C-2FEB24E0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894-231F-4784-B4A1-3B186788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9E4-655A-4689-921C-793A674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9BF-C131-4BB6-97FF-30EB86C6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888-6994-4C7A-B9F8-0C7EE8F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0DC-9A3C-4DC9-9571-5100C01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7C7-E53D-4519-A4FF-DBF86F27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6A0-5080-4DA0-AED8-50F183F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943-968B-49A2-9BDD-F13D87F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D3B-0631-48F6-8734-65F9A58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66795-1CF1-4C98-A1E5-9C47CB4D33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