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42189"/>
        <c:axId val="54939531"/>
      </c:barChart>
      <c:catAx>
        <c:axId val="51142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39531"/>
        <c:crosses val="autoZero"/>
        <c:auto val="1"/>
        <c:lblAlgn val="ctr"/>
        <c:lblOffset val="100"/>
        <c:noMultiLvlLbl val="0"/>
      </c:catAx>
      <c:valAx>
        <c:axId val="54939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42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00D-0175-4E77-A474-42F4DE5A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13F-4818-4886-A7EC-7317597F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EB0-FF32-4843-8FED-4EFDAB33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4A9-7E4B-47DF-B8B6-13EEE38F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1DD-4469-461B-BE89-132867F4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827-0FAC-4808-A52D-97AAA4A4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340-911A-4789-A7C5-CD7E9F19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1A9-4D54-4864-9702-9D8E525F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137-DB0A-4298-9C5C-D5D7A057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221-717B-4C44-A7B3-110EC2D5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DC9-2B65-4670-AB1E-06EA60D7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ED5-12AE-44C0-9848-6F6EF9B8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31D96-E2F9-4F27-B19C-A8F13690FD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