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10534"/>
        <c:axId val="52917286"/>
      </c:barChart>
      <c:catAx>
        <c:axId val="50810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17286"/>
        <c:crosses val="autoZero"/>
        <c:auto val="1"/>
        <c:lblAlgn val="ctr"/>
        <c:lblOffset val="100"/>
        <c:noMultiLvlLbl val="0"/>
      </c:catAx>
      <c:valAx>
        <c:axId val="52917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10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EEF-BDD4-487F-99A1-B7530559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F01-239C-4207-9599-95E100A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C54-8BDB-4672-A481-1F09D5BD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97E-B22B-4319-8D55-5292193D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D03-6859-492D-AAE9-BA4A3498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B6C-8109-441B-BADD-AC5BA008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A53-2740-4693-905E-965D2505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42A-3CF6-4CDB-BCB1-338DD1D9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561-4496-44CD-A881-5992893F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655-EB40-497D-9C17-8DE6A987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985-7F12-45BA-88D5-ADF11A7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AB9-039B-40B9-8FA7-8783B7C7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EA4B2-6C74-40FD-91F6-52C0A64B71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