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33170"/>
        <c:axId val="81747190"/>
      </c:barChart>
      <c:catAx>
        <c:axId val="91933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47190"/>
        <c:crosses val="autoZero"/>
        <c:auto val="1"/>
        <c:lblAlgn val="ctr"/>
        <c:lblOffset val="100"/>
        <c:noMultiLvlLbl val="0"/>
      </c:catAx>
      <c:valAx>
        <c:axId val="81747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33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B59-3356-4FB1-810F-E856D861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07F-5B21-4C62-8CFB-2DD4F671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D7D-692E-4B33-973C-1A21EE18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DBF-42AC-4377-BF46-8F50B886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242-CE14-48E7-8F88-B39D2050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42D-258C-4412-82B4-34739D0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F76-F9B3-43CF-89D9-46E3A650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486-E7FB-4935-A394-20C99D69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752-28EE-4EBA-8874-72FF0C83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C2C-EEEC-46B5-B9C0-DFAA1012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79D-B726-4C3E-A586-461277C2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E71-9D0A-4E6E-A75A-AC348599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5DC18-3A01-44D5-BDFE-BFAC3A817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