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20610"/>
        <c:axId val="77657664"/>
      </c:barChart>
      <c:catAx>
        <c:axId val="50520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57664"/>
        <c:crosses val="autoZero"/>
        <c:auto val="1"/>
        <c:lblAlgn val="ctr"/>
        <c:lblOffset val="100"/>
        <c:noMultiLvlLbl val="0"/>
      </c:catAx>
      <c:valAx>
        <c:axId val="77657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0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88A-1167-4D02-ADB9-8BBAD36E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48A-27E5-48D0-BAA0-5D7C091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C0D-75B1-4A2E-9091-F44BDAA3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0B5-EA1B-4B2E-BB3F-0237BB33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08D-1BE5-48C4-8AA5-C1C3D3C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3E5-C3D1-4F7D-AC49-E98B110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C6D-5E0D-464D-8DC0-0E91B25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0C2-309B-4D65-8650-71062248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7EC-40E7-43AA-A17B-2459AE3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E81-E63D-4DB6-8908-5A3CC0F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B83-2F0B-4EF7-A299-9CB04A5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B08-7866-45A9-AC7D-F11FEBF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20F3B-C5A4-421F-AC39-6692FDCC3D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