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08835"/>
        <c:axId val="20200377"/>
      </c:barChart>
      <c:catAx>
        <c:axId val="74408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00377"/>
        <c:crosses val="autoZero"/>
        <c:auto val="1"/>
        <c:lblAlgn val="ctr"/>
        <c:lblOffset val="100"/>
        <c:noMultiLvlLbl val="0"/>
      </c:catAx>
      <c:valAx>
        <c:axId val="20200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08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CB1-524D-4F84-87B0-621F1618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67C-F98F-4503-9442-D550BAA9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EFC-3784-4AC1-A4F2-240270CA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4A8-B77C-4957-91FA-D4E29181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EFD-BF3A-439F-A662-7141C165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13A-2E5C-4C7A-8F92-848E44AF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72A-F8CD-4E55-8BE9-1FF74F83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98F-1A81-4F01-B3AC-58FC9956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238-CF64-49FA-B4A8-3C47D046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B2A-8D4A-4B4F-B400-A1371856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F18-FBA0-45C7-B600-A199E32A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0B3-1BE7-44E6-967D-593AD0D4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D838C-5522-4FD2-8A99-86A1BCF402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