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32770"/>
        <c:axId val="41995088"/>
      </c:barChart>
      <c:catAx>
        <c:axId val="191327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95088"/>
        <c:crosses val="autoZero"/>
        <c:auto val="1"/>
        <c:lblAlgn val="ctr"/>
        <c:lblOffset val="100"/>
        <c:noMultiLvlLbl val="0"/>
      </c:catAx>
      <c:valAx>
        <c:axId val="41995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327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FC78-8CBD-42ED-B500-BA4955FD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DAD-A29B-4EF5-82EF-77219CC5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2D7C-86ED-4A1B-BBCD-07377D4E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DE0-C675-4DCA-B048-D63D129B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BCDB-2DA7-4D00-B11E-69900843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C698-DFFC-4970-B238-A410E758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674-535E-4D0A-90A6-A69BF697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125-2FAB-482D-9C21-7C342F60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D788-C888-4133-88FE-F9A2DC58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EFA-0E86-45F8-9858-09F00258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069B-F986-4B36-B660-D0F09D72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93F5-F83D-4664-B3DD-363CC5EC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B0DFC-ED5C-43C5-8861-6F2D1A8222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