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48623"/>
        <c:axId val="49555520"/>
      </c:barChart>
      <c:catAx>
        <c:axId val="61648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55520"/>
        <c:crosses val="autoZero"/>
        <c:auto val="1"/>
        <c:lblAlgn val="ctr"/>
        <c:lblOffset val="100"/>
        <c:noMultiLvlLbl val="0"/>
      </c:catAx>
      <c:valAx>
        <c:axId val="49555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48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DAE-622F-4BA6-9019-A6C37C6F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E31-C465-4F95-82C9-E5F4B55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84F-D347-4CA5-953A-282E6CF2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468-C27F-4A05-BEDC-40BBBD0D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65D-F64A-424C-AFD0-4C494DF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BABB-D745-45CA-8EE3-82748CDC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CFF-3013-4ACA-B5C5-B5E61A26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3E2-7B5C-4A0B-BDAA-1355CE12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BB41-22C9-4F09-86FD-DBE47248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904-90C4-4ECF-BCAD-D5CC987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0CC0-BD70-4810-BBE0-226545C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572-C7C8-4DEA-B57D-51A93AE6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86606-15EE-46E4-859F-6E33559034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