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132023"/>
        <c:axId val="42346145"/>
      </c:barChart>
      <c:catAx>
        <c:axId val="971320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346145"/>
        <c:crosses val="autoZero"/>
        <c:auto val="1"/>
        <c:lblAlgn val="ctr"/>
        <c:lblOffset val="100"/>
        <c:noMultiLvlLbl val="0"/>
      </c:catAx>
      <c:valAx>
        <c:axId val="423461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1320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F760-B4B9-40D8-9B0C-AF046CA6F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C7EF-003C-4E55-9C7E-C3742E187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9AA2-5917-4810-82C6-E06838050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CB3D-6A55-42F4-B2CF-CAAB51B1B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B9C9-0DBB-4176-8380-A60E72A7B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E85D-414F-4E13-94C2-D3562079C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6E84-460E-4BD4-A8F7-49A1F9E9D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9567-CC2D-46E9-BAEA-5A2236F27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B744-08D9-427B-8F40-3A2C5CC53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D452-40C2-415E-8967-A0048B1E7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5A8B-E695-4256-BFB8-BC0E7CF94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3708-725C-43EE-B58F-45DDD0A5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21799E-E93E-46C8-B77C-E90872F520E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