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5161"/>
        <c:axId val="83714101"/>
      </c:barChart>
      <c:catAx>
        <c:axId val="1735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14101"/>
        <c:crosses val="autoZero"/>
        <c:auto val="1"/>
        <c:lblAlgn val="ctr"/>
        <c:lblOffset val="100"/>
        <c:noMultiLvlLbl val="0"/>
      </c:catAx>
      <c:valAx>
        <c:axId val="83714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5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949-2C95-4316-8071-C1CAC33F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AD0-B4BB-46CE-8B86-0716A5D9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8CF-29D2-453A-9331-414452FB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6CD-38DE-4823-9A72-F4A4E32A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0B3-023F-47EC-B43C-BD1BF2FC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CBB-B7E7-497D-A792-DE63FF06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133-B956-4062-866C-6499AFF7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BD6-C95C-427B-9DD8-9C4BB286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B47-D079-47CA-B48B-64526CBB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18D-0F12-4164-BAE3-E38394F5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2D8-25A9-4637-BC07-9656AC84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B3C-D001-4F5E-8BC4-349DA148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14F31-01DF-4D4C-920A-90887242D5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