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076390"/>
        <c:axId val="95036707"/>
      </c:barChart>
      <c:catAx>
        <c:axId val="840763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036707"/>
        <c:crosses val="autoZero"/>
        <c:auto val="1"/>
        <c:lblAlgn val="ctr"/>
        <c:lblOffset val="100"/>
        <c:noMultiLvlLbl val="0"/>
      </c:catAx>
      <c:valAx>
        <c:axId val="950367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0763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617E-FA5E-4C78-B009-F797673A9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0870-07CD-45BD-BA2A-3DC824C09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5BF0-3D90-4C5E-9F27-30AB55338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8C3A-1446-4174-ACAE-438D7C925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FCF1-A897-41DA-A30C-E1908F38A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8DF0-27C0-413A-B8E3-15E6FCDDF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4F72-C275-4C58-AEF7-ED8E5A1F1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DEC0-996B-4EEE-942A-4C6019341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3A76-A012-4B08-BA8F-C85F8CE5A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3326-7218-41C3-B0E7-36834376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30D8-DDE6-4DA7-B7C1-D0F901E1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B97A-D76F-43C2-8152-785B7501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A0F628-DE7F-478A-9881-F59F67316C7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