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31259"/>
        <c:axId val="82257360"/>
      </c:barChart>
      <c:catAx>
        <c:axId val="87131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57360"/>
        <c:crosses val="autoZero"/>
        <c:auto val="1"/>
        <c:lblAlgn val="ctr"/>
        <c:lblOffset val="100"/>
        <c:noMultiLvlLbl val="0"/>
      </c:catAx>
      <c:valAx>
        <c:axId val="82257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31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D29-20D7-4860-9ED0-F91AFD0A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76A-C69E-4971-8330-E1074D6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879-05A6-48E5-B869-1A4411F8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35F-8002-400A-9F15-C98190C1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671-99D9-49C8-8879-DE47944F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632-DFF7-45BC-9ACE-EC3C81B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D38-4236-41F9-B9D2-31F8543E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953-1F10-4491-988A-2A51B2C4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1E8-2A33-477D-A5DE-25386432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8BE-E32A-455F-B1C9-9DAECA7E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43D-3435-42F6-8206-D644E95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2AE-65C0-49A1-A8C0-6D03F5A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09541-FF65-40A6-8C0A-22F1CFDEF7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