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8D9D-B89B-4310-B2CF-FA4786ADC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CB1E-2923-40BE-967A-1D18F64F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36D8-E08B-4F7A-8122-5D4DCBD38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307D-A55F-4212-A4A9-C9615A321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1341-E542-4E35-B657-2B519726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94B9-5F23-4208-B37C-A0097FA4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003D-62DC-44DD-9604-725E3170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50DD-555C-455C-9D00-38FB0FAA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29BD-73D0-4A71-8655-E54FD9DD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44CD-5CCC-4DAD-BBC7-C1D6D87F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9676-41C9-4271-BB5B-F8B37D96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DC91-6818-4438-BFFA-1B8F3A21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9B52-25CB-44D5-AF14-AB353E5D7E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33526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gonal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57800" y="33526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vots applied to other column pa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09680" y="3352680"/>
            <a:ext cx="30492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192"/>
                </a:moveTo>
                <a:lnTo>
                  <a:pt x="0" y="0"/>
                </a:lnTo>
                <a:lnTo>
                  <a:pt x="192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7920" y="3505320"/>
            <a:ext cx="2819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47920" y="4648320"/>
            <a:ext cx="2819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954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0040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98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384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668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524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09680" y="3352680"/>
            <a:ext cx="2057400" cy="304920"/>
          </a:xfrm>
          <a:custGeom>
            <a:avLst/>
            <a:gdLst/>
            <a:ahLst/>
            <a:rect l="l" t="t" r="r" b="b"/>
            <a:pathLst>
              <a:path w="1296" h="192">
                <a:moveTo>
                  <a:pt x="0" y="0"/>
                </a:moveTo>
                <a:lnTo>
                  <a:pt x="1296" y="0"/>
                </a:lnTo>
                <a:lnTo>
                  <a:pt x="1296" y="192"/>
                </a:lnTo>
                <a:lnTo>
                  <a:pt x="192" y="192"/>
                </a:lnTo>
                <a:lnTo>
                  <a:pt x="0" y="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76440" y="380988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71720" y="281952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3352680"/>
            <a:ext cx="3809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 block row of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trs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09680" y="3352680"/>
            <a:ext cx="30492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192"/>
                </a:moveTo>
                <a:lnTo>
                  <a:pt x="0" y="0"/>
                </a:lnTo>
                <a:lnTo>
                  <a:pt x="192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209680" y="3352680"/>
            <a:ext cx="2057400" cy="304920"/>
          </a:xfrm>
          <a:custGeom>
            <a:avLst/>
            <a:gdLst/>
            <a:ahLst/>
            <a:rect l="l" t="t" r="r" b="b"/>
            <a:pathLst>
              <a:path w="1296" h="192">
                <a:moveTo>
                  <a:pt x="0" y="0"/>
                </a:moveTo>
                <a:lnTo>
                  <a:pt x="1296" y="0"/>
                </a:lnTo>
                <a:lnTo>
                  <a:pt x="1296" y="192"/>
                </a:lnTo>
                <a:lnTo>
                  <a:pt x="192" y="192"/>
                </a:lnTo>
                <a:lnTo>
                  <a:pt x="0" y="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57800" y="3352680"/>
            <a:ext cx="3581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railing sub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gem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09680" y="3352680"/>
            <a:ext cx="30492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192"/>
                </a:moveTo>
                <a:lnTo>
                  <a:pt x="0" y="0"/>
                </a:lnTo>
                <a:lnTo>
                  <a:pt x="192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3657600"/>
            <a:ext cx="1752480" cy="1523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5257800" y="3124080"/>
            <a:ext cx="76212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19920" y="3124080"/>
            <a:ext cx="76176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781680" y="3124080"/>
            <a:ext cx="76212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43800" y="3124080"/>
            <a:ext cx="76212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257800" y="3809880"/>
            <a:ext cx="762120" cy="685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19920" y="3809880"/>
            <a:ext cx="76176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81680" y="3809880"/>
            <a:ext cx="76212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43800" y="3809880"/>
            <a:ext cx="76212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86400" y="3886200"/>
            <a:ext cx="228600" cy="609480"/>
          </a:xfrm>
          <a:prstGeom prst="rect">
            <a:avLst/>
          </a:prstGeom>
          <a:solidFill>
            <a:srgbClr val="ff00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486400" y="3962520"/>
            <a:ext cx="228600" cy="228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15000" y="3962520"/>
            <a:ext cx="304920" cy="2286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4120" y="3962520"/>
            <a:ext cx="152280" cy="2286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715000" y="342900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239960" y="3962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78200" y="3962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02240" y="3429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240320" y="3429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002440" y="3429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002080" y="3962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86400" y="3276720"/>
            <a:ext cx="228600" cy="533160"/>
          </a:xfrm>
          <a:prstGeom prst="rect">
            <a:avLst/>
          </a:prstGeom>
          <a:solidFill>
            <a:srgbClr val="ff00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3962520"/>
            <a:ext cx="609480" cy="2286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96080" y="3962520"/>
            <a:ext cx="609840" cy="2286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934320" y="3962520"/>
            <a:ext cx="609480" cy="2286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09680" y="3352680"/>
            <a:ext cx="2057400" cy="304920"/>
          </a:xfrm>
          <a:custGeom>
            <a:avLst/>
            <a:gdLst/>
            <a:ahLst/>
            <a:rect l="l" t="t" r="r" b="b"/>
            <a:pathLst>
              <a:path w="1296" h="192">
                <a:moveTo>
                  <a:pt x="0" y="0"/>
                </a:moveTo>
                <a:lnTo>
                  <a:pt x="1296" y="0"/>
                </a:lnTo>
                <a:lnTo>
                  <a:pt x="1296" y="192"/>
                </a:lnTo>
                <a:lnTo>
                  <a:pt x="192" y="192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1309320" y="2109960"/>
            <a:ext cx="707868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15000" y="41911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00800" y="41911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162920" y="41911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924680" y="4191120"/>
            <a:ext cx="2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 matrix to 2x4 gr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2133720"/>
            <a:ext cx="0" cy="34290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133720" y="2133720"/>
            <a:ext cx="5715000" cy="3733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133720" y="2133720"/>
            <a:ext cx="289548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128680" y="2128680"/>
            <a:ext cx="1444680" cy="419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2133720"/>
            <a:ext cx="144792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2133720"/>
            <a:ext cx="68580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3400" y="2133720"/>
            <a:ext cx="68580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91320" y="2133720"/>
            <a:ext cx="68580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162920" y="2133720"/>
            <a:ext cx="68580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477120" y="2133720"/>
            <a:ext cx="68580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029200" y="2133720"/>
            <a:ext cx="762120" cy="68580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133720" y="2819520"/>
            <a:ext cx="5715000" cy="2286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81280" y="4419720"/>
            <a:ext cx="221004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791320" y="3581280"/>
            <a:ext cx="685800" cy="60984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33720" y="4191120"/>
            <a:ext cx="5715000" cy="2286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33720" y="4419720"/>
            <a:ext cx="76176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95480" y="3048120"/>
            <a:ext cx="213372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77120" y="4952880"/>
            <a:ext cx="685800" cy="60984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133720" y="5562720"/>
            <a:ext cx="5715000" cy="2286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133720" y="5791320"/>
            <a:ext cx="144756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343400" y="5791320"/>
            <a:ext cx="213372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2209680"/>
            <a:ext cx="914400" cy="76212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3581280"/>
            <a:ext cx="1143000" cy="30492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c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2280" y="4038480"/>
            <a:ext cx="762120" cy="30492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33720" y="2438280"/>
            <a:ext cx="76176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33720" y="2666880"/>
            <a:ext cx="76176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029200" y="2438280"/>
            <a:ext cx="76212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029200" y="2666880"/>
            <a:ext cx="76212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581280" y="40384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895480" y="24382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81280" y="38098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91320" y="3048120"/>
            <a:ext cx="205740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91320" y="380988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791320" y="403848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43400" y="51055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77120" y="510552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43400" y="52578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77120" y="525780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77120" y="4419720"/>
            <a:ext cx="137160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162920" y="5791320"/>
            <a:ext cx="68580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95480" y="380988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95480" y="403848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81280" y="5257800"/>
            <a:ext cx="76212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>
            <a:off x="2895120" y="2666520"/>
            <a:ext cx="2134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2133720" y="3276720"/>
            <a:ext cx="5715000" cy="304560"/>
          </a:xfrm>
          <a:prstGeom prst="rect">
            <a:avLst/>
          </a:prstGeom>
          <a:solidFill>
            <a:srgbClr val="9900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133720" y="4648320"/>
            <a:ext cx="5715000" cy="304560"/>
          </a:xfrm>
          <a:prstGeom prst="rect">
            <a:avLst/>
          </a:prstGeom>
          <a:solidFill>
            <a:srgbClr val="9900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133720" y="6019920"/>
            <a:ext cx="5715000" cy="304560"/>
          </a:xfrm>
          <a:prstGeom prst="rect">
            <a:avLst/>
          </a:prstGeom>
          <a:solidFill>
            <a:srgbClr val="9900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52280" y="3124080"/>
            <a:ext cx="914400" cy="304920"/>
          </a:xfrm>
          <a:prstGeom prst="rect">
            <a:avLst/>
          </a:prstGeom>
          <a:solidFill>
            <a:srgbClr val="9900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15200" y="16765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629400" y="16765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43600" y="16765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6765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95680" y="1676520"/>
            <a:ext cx="2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09880" y="1676520"/>
            <a:ext cx="2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1676520"/>
            <a:ext cx="2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62320" y="16765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81280" y="5105520"/>
            <a:ext cx="76212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32160" y="2814480"/>
            <a:ext cx="37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imeline of next three iterations, original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57800" y="33526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‘pane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3352680"/>
            <a:ext cx="3581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gin factorization of  diagonal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getf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57800" y="3352680"/>
            <a:ext cx="3581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maximum element in current column (pivo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ama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0" y="3429000"/>
            <a:ext cx="0" cy="17524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09680" y="4114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57800" y="3352680"/>
            <a:ext cx="3581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p rows within the current pan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sw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3429000"/>
            <a:ext cx="0" cy="17524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4114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09680" y="4191120"/>
            <a:ext cx="3049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3429000"/>
            <a:ext cx="3049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2" idx="0"/>
            <a:endCxn id="91" idx="3"/>
          </p:cNvCxnSpPr>
          <p:nvPr/>
        </p:nvCxnSpPr>
        <p:spPr>
          <a:xfrm flipH="1" flipV="1" rot="5400000">
            <a:off x="2172240" y="3846960"/>
            <a:ext cx="694440" cy="10080"/>
          </a:xfrm>
          <a:prstGeom prst="curvedConnector5">
            <a:avLst>
              <a:gd name="adj1" fmla="val 6172"/>
              <a:gd name="adj2" fmla="val 1200000"/>
              <a:gd name="adj3" fmla="val 6172"/>
            </a:avLst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3352680"/>
            <a:ext cx="3581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le current column by piv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s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3429000"/>
            <a:ext cx="0" cy="175248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209680" y="3352680"/>
            <a:ext cx="304920" cy="1828800"/>
          </a:xfrm>
          <a:custGeom>
            <a:avLst/>
            <a:gdLst/>
            <a:ahLst/>
            <a:rect l="l" t="t" r="r" b="b"/>
            <a:pathLst>
              <a:path w="192" h="1152">
                <a:moveTo>
                  <a:pt x="0" y="0"/>
                </a:moveTo>
                <a:lnTo>
                  <a:pt x="192" y="192"/>
                </a:lnTo>
                <a:lnTo>
                  <a:pt x="192" y="1152"/>
                </a:lnTo>
                <a:lnTo>
                  <a:pt x="0" y="1152"/>
                </a:lnTo>
                <a:lnTo>
                  <a:pt x="0" y="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33526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k one modification within panel (pdg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33526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eat until block is facto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3352680"/>
            <a:ext cx="30492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192"/>
                </a:moveTo>
                <a:lnTo>
                  <a:pt x="0" y="0"/>
                </a:lnTo>
                <a:lnTo>
                  <a:pt x="192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57800" y="335268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oadcast pivot information to all proces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159984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905120" y="35053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1460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1460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14600" y="3505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14600" y="3505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3505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14600" y="35053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3352680"/>
            <a:ext cx="30492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192"/>
                </a:moveTo>
                <a:lnTo>
                  <a:pt x="0" y="0"/>
                </a:lnTo>
                <a:lnTo>
                  <a:pt x="192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23:24:48Z</dcterms:created>
  <dc:creator>marybeth</dc:creator>
  <dc:description/>
  <dc:language>en-US</dc:language>
  <cp:lastModifiedBy>jglewis</cp:lastModifiedBy>
  <dcterms:modified xsi:type="dcterms:W3CDTF">2005-11-07T23:27:06Z</dcterms:modified>
  <cp:revision>4</cp:revision>
  <dc:subject/>
  <dc:title>ScaLAPACK Tuning </dc:title>
</cp:coreProperties>
</file>